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46FF-33D6-4D21-B876-4F24614A217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Vlookup function was critical for us to sort through a significant amount of information and effectively incorporate the integral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715-A786-4AEA-9522-0F88BFB6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24F-1D16-4423-BE4A-91FC1094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022-2D26-4F42-853B-E168C377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F71-5E54-4A26-81EA-204C4DD1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659-0644-46B1-B9DD-0A689E65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5F3-B749-4460-ABCC-838E27A2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A19-5BCC-4A85-BE14-EA29E172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437-CF77-4864-847B-7205B107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045-A680-40C0-80F6-E0A02151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24A-2104-4507-B6C5-71B9787D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746-D615-401F-BEDA-BC01EB01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5D9-5736-4999-B651-36C74254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5295-DA9B-4559-B3F1-AF0F9ED985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itle 5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ll 2008 Decision Models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457200" y="129528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dule and Classroom Optimizer for NYU Academic Depart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am 8 Member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vin Dil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urabh Gupt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hit Red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an Squibb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Vinti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92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ution Methodology: Challen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457200" y="10666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Solver models are limited to 200 decision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imit the number of courses and use a modular function to reduce the number of decision variables to one for room and one for schedul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tandard Evolutionary Solver failed to optimize all penalties simultaneous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Run multiple times with varying targets and penalty weights. (e.g. first to find the neighborhood, then to find the addr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96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229600" cy="2408400"/>
          </a:xfrm>
          <a:prstGeom prst="rect">
            <a:avLst/>
          </a:prstGeom>
          <a:ln w="0">
            <a:noFill/>
          </a:ln>
        </p:spPr>
      </p:pic>
      <p:sp>
        <p:nvSpPr>
          <p:cNvPr id="98" name="Title 5"/>
          <p:cNvSpPr/>
          <p:nvPr/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Methodology: Decision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101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Methodology: Objective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772956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105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Methodology: Double B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6604200" cy="4027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4800600"/>
            <a:ext cx="410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s all double bookings for this day.  Model replicated for each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4648320"/>
            <a:ext cx="403848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-17138"/>
              <a:gd name="adj5" fmla="val -356773"/>
              <a:gd name="adj6" fmla="val -22444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1430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112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mmendations &amp;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12840" y="1542960"/>
            <a:ext cx="821196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116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457200" y="106668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ting stakeholder buy-i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of of conce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ensus on penalty functions and tar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 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rcial versions of Solver with unlimited decision varia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stomizable genetic algorithm packa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56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457200" y="114300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ial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 Uti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ve and Penalty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s &amp;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60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rial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457200" y="1143000"/>
            <a:ext cx="815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Each semester, NYU manually assigns classes to times and eventually realizes that classroom supply fails to meet dema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nagerial 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We want to create a decision model that enables NYU to more effectively schedule classes and efficiently utilize available classro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64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Uti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457200" y="1066680"/>
            <a:ext cx="8153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information for NYU’s Spring 2008 ter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ction 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art Time/Time Blocks Need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ays of the Week Each Class Was He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storical Enrollment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otential Classroo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urses with Co-Registration Confli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 applied to the French Department before attempting to scal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68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ple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36920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72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457200" y="1143000"/>
            <a:ext cx="815328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 both scheduling and classroom utilization for NYU academic depart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volutionary Solver with various “penalties: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uble Boo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-regi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flat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i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quence Bre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 Ro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tal Rooms U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total “penalty” for failing to meet the desired level for each item abo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76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alty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uble book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wo classes cannot be scheduled for the same classroom at the same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-registr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or more classes catering to the same group of students cannot be scheduled at the same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flatnes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variation in the number of classrooms needed at particular times across the available schedu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i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rofessors have times and days of the week during which they prefer to teach.  Any deviation from a professor’s preferred schedule creates friction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quence Break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 professors prefer to teach back to back classes. Any sequence break is coun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80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alty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457200" y="1066680"/>
            <a:ext cx="8153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rt Room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rses of similar enrollment should be assigned to the same room where possible. This addresses the issue of classroom seat inefficien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tal Rooms Used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classrooms required to efficiently accommodate an academic depar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84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ution Methodology: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019920" y="236232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Patterns: Integer  [1 - 45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Rooms 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5334120" cy="2874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1752480" y="2666880"/>
            <a:ext cx="419112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523880" y="3352680"/>
            <a:ext cx="457200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35812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00:35:18Z</dcterms:created>
  <dc:creator>syco</dc:creator>
  <dc:description/>
  <dc:language>en-US</dc:language>
  <cp:lastModifiedBy>David Vintinner</cp:lastModifiedBy>
  <cp:lastPrinted>2008-11-21T20:11:56Z</cp:lastPrinted>
  <dcterms:modified xsi:type="dcterms:W3CDTF">2008-11-22T01:49:33Z</dcterms:modified>
  <cp:revision>335</cp:revision>
  <dc:subject/>
  <dc:title>Slide 1</dc:title>
</cp:coreProperties>
</file>